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CC9-F633-46DB-95B5-7949D27F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732-F028-4D30-B336-9BA02DA0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51E-B398-424D-96AF-A580669C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B25-4747-438F-AE1F-3FC0E4A6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0CF9-502B-44E3-8393-95C0E347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3705-25C3-4592-B8AF-AFFA52A4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8C58-64A8-459A-9B0E-7214372C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3F2F-AA33-4190-9D7F-C46ABC66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980E-6D36-48C4-8062-7885A439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4A63-8DC3-4144-B772-1954AA5B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40BE-BE1C-402A-A6D4-97F3F9A7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D0B-A17E-4C4E-8FEA-AEBA2E19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D8A5-8FA9-4E1B-996F-063453E0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CAB1-822F-483D-9B1D-0564558B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C031-3ED4-4E2F-9094-93ED929A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14CD-B36D-401B-B9E0-C9DE567C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1363-519D-4FDF-9E58-49510A2F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434-2DAE-4002-AEF4-CBE0CCE6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59A-D617-4091-8B72-EF67D798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4ED-05CF-441E-AA99-055DB23B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03F-706D-466C-BC9C-3FD03B2F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369-DB8F-4921-A4B4-A599E5A7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55B-1305-4EBE-BB8B-F9ABE75F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A5C-98F0-4D54-915A-A9FA465D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6249-D6DF-4338-BCEF-95908BDFF63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3A2F-FD72-45B1-A850-19D2D43CB26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6.jpe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ur Feeling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76160" y="2895120"/>
            <a:ext cx="5640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Happy,    Sad,    Ang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1057320" cy="1114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09880" y="36576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1238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ow do you feel, and why…….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At school your friend is playing with someone else, you want to play too, but they said, “We don’t won’t to play with you”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How do you feel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9568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00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, to</a:t>
            </a:r>
            <a:r>
              <a:rPr b="1" lang="en-US" sz="44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ear response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Comic Sans MS"/>
              </a:rPr>
              <a:t>You went to Mc Donald’s Restaurant with your family.  You got a Happy Meal and a free toy. Your baby sister/brother lost their free toy.  So, your mom ask you to give your toy to your brother/sister</a:t>
            </a: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ow would you feel?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58672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00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</a:t>
            </a:r>
            <a:r>
              <a:rPr b="1" lang="en-US" sz="2400" spc="-1" strike="noStrike">
                <a:solidFill>
                  <a:srgbClr val="f7d47d"/>
                </a:solidFill>
                <a:latin typeface="Comic Sans MS"/>
              </a:rPr>
              <a:t>, to</a:t>
            </a:r>
            <a:r>
              <a:rPr b="1" lang="en-US" sz="44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ear response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Comic Sans MS"/>
              </a:rPr>
              <a:t>You were playing outside with your friends. It was a hot day. Your mom brought a pitcher of Kool-aid to share with your friends.</a:t>
            </a: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ow would you feel and why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962520" y="4876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12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Tell me how do you feel when hear this sound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, to hear respons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2767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316400" y="27036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4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6000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Tell me how do you feel when hear this soun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Click on the icon, to hear respons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35268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9000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47d"/>
                </a:solidFill>
                <a:latin typeface="Comic Sans MS"/>
              </a:rPr>
              <a:t>Click on the icons, to</a:t>
            </a:r>
            <a:r>
              <a:rPr b="1" lang="en-US" sz="4400" spc="-1" strike="noStrike">
                <a:solidFill>
                  <a:srgbClr val="f7d47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7d47d"/>
                </a:solidFill>
                <a:latin typeface="Comic Sans MS"/>
              </a:rPr>
              <a:t>hear responses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Tell me two things that made you angr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Tell me who or what made you feel sa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Comic Sans MS"/>
              </a:rPr>
              <a:t>What did momma do to make you happy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334120" y="2286000"/>
            <a:ext cx="1238040" cy="914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172200" y="3962520"/>
            <a:ext cx="1057320" cy="838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486400" y="5638680"/>
            <a:ext cx="905040" cy="609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43434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33526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5000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100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4000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0:09:51Z</dcterms:created>
  <dc:creator>Greenville Schools</dc:creator>
  <dc:description/>
  <dc:language>en-US</dc:language>
  <cp:lastModifiedBy>NA</cp:lastModifiedBy>
  <dcterms:modified xsi:type="dcterms:W3CDTF">2008-02-16T21:14:47Z</dcterms:modified>
  <cp:revision>7</cp:revision>
  <dc:subject/>
  <dc:title>Our Feelings</dc:title>
</cp:coreProperties>
</file>